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5FB-106F-4A09-BFCF-1FE0764CA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BD4A-56DF-4DFF-A3A4-967E1F43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998A-2601-4B10-B4F8-D428B845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EE3B-B02A-4259-8782-70FB92454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2363-5556-41C2-A98C-1A3559AE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2D46-DCCE-4F0E-9DEE-6C45B87BA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E83C-A812-4A3F-9636-1E00280D6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056F-470C-4264-891B-9B1B1AA8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99A-F999-4E5D-8DCF-B1B818B25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383A-F02E-40A3-8171-721F2D5CF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4A02-50DB-450D-A248-2061B33F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F95F-367E-446D-9989-30DB044DE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098B-8E30-467B-A319-BC2DC645B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C80F-3FE7-4EB5-B33F-A91893FDF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266-33A8-4E56-9D2C-349E4D0A8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364A-691A-4E74-8BD3-6F2DA010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0F29-6FDE-4DC9-94CB-910E40BD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4AC6-6294-46B7-82C9-FB2737278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FE7F-9636-4460-BE8F-3064A0F1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62B9-A5ED-44C7-90A7-A2DBF38D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9B29-C2F7-493E-8F78-AC62461D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ACDF-0FA0-4939-AFDD-E13050E90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bkgrd idea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3013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28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6"/>
          <p:cNvSpPr/>
          <p:nvPr/>
        </p:nvSpPr>
        <p:spPr>
          <a:xfrm>
            <a:off x="5431680" y="6573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5433120" y="1096920"/>
            <a:ext cx="29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Basic 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5430240" y="2208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5433480" y="2647800"/>
            <a:ext cx="296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 Look at Wants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6118200" y="4448160"/>
            <a:ext cx="2278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3013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28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094760" y="2097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93680" y="2565360"/>
            <a:ext cx="7112160" cy="53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needs and 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between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types of economic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Question – what are economic re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How Resources Limit the Ability to Satisfy Wants and Need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0760" y="2394000"/>
            <a:ext cx="39528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has enough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atisfy all of their w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4932360" y="27208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Economic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means through which goods and services are produc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ree types of economic resour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resource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ctors of produc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kinds of economic resou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1. Natural Resour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w materials supplied by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2. Human Resour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producing goods and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3. Capital Resour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must have access to tools and equipment in order to convert natural resources into produc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resources include buildings, equipment, supplies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include $$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332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factory, buy a truck, pay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0000"/>
                </a:solidFill>
                <a:latin typeface="Arial"/>
              </a:rPr>
              <a:t>Factors of Production and SpaghettiOs</a:t>
            </a:r>
            <a:endParaRPr b="1" lang="en-US" sz="2800" spc="-1" strike="noStrike">
              <a:solidFill>
                <a:srgbClr val="b40000"/>
              </a:solidFill>
              <a:latin typeface="Arial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0" y="2495520"/>
            <a:ext cx="2876400" cy="2895480"/>
            <a:chOff x="0" y="2495520"/>
            <a:chExt cx="2876400" cy="2895480"/>
          </a:xfrm>
        </p:grpSpPr>
        <p:sp>
          <p:nvSpPr>
            <p:cNvPr id="166" name="Oval 4"/>
            <p:cNvSpPr/>
            <p:nvPr/>
          </p:nvSpPr>
          <p:spPr>
            <a:xfrm>
              <a:off x="0" y="2495520"/>
              <a:ext cx="2876400" cy="2895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743040" y="28576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tur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1"/>
          <p:cNvGrpSpPr/>
          <p:nvPr/>
        </p:nvGrpSpPr>
        <p:grpSpPr>
          <a:xfrm>
            <a:off x="3105000" y="2495520"/>
            <a:ext cx="2781360" cy="2838600"/>
            <a:chOff x="3105000" y="2495520"/>
            <a:chExt cx="2781360" cy="2838600"/>
          </a:xfrm>
        </p:grpSpPr>
        <p:sp>
          <p:nvSpPr>
            <p:cNvPr id="169" name="Oval 5"/>
            <p:cNvSpPr/>
            <p:nvPr/>
          </p:nvSpPr>
          <p:spPr>
            <a:xfrm>
              <a:off x="3105000" y="2495520"/>
              <a:ext cx="2781360" cy="283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3848040" y="28954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"/>
          <p:cNvGrpSpPr/>
          <p:nvPr/>
        </p:nvGrpSpPr>
        <p:grpSpPr>
          <a:xfrm>
            <a:off x="6362640" y="2514600"/>
            <a:ext cx="2781360" cy="2838600"/>
            <a:chOff x="6362640" y="2514600"/>
            <a:chExt cx="2781360" cy="2838600"/>
          </a:xfrm>
        </p:grpSpPr>
        <p:sp>
          <p:nvSpPr>
            <p:cNvPr id="172" name="Oval 6"/>
            <p:cNvSpPr/>
            <p:nvPr/>
          </p:nvSpPr>
          <p:spPr>
            <a:xfrm>
              <a:off x="6362640" y="2514600"/>
              <a:ext cx="2781360" cy="283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9"/>
            <p:cNvSpPr/>
            <p:nvPr/>
          </p:nvSpPr>
          <p:spPr>
            <a:xfrm>
              <a:off x="7067520" y="28576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13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Make the Most of Your Resources Because Our Resources are Limited</a:t>
            </a:r>
            <a:br>
              <a:rPr sz="3200"/>
            </a:b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0400" y="2762280"/>
            <a:ext cx="866916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the most of your resources by making careful decisions about what to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ethics in business copy"/>
          <p:cNvPicPr/>
          <p:nvPr/>
        </p:nvPicPr>
        <p:blipFill>
          <a:blip r:embed="rId1"/>
          <a:stretch/>
        </p:blipFill>
        <p:spPr>
          <a:xfrm>
            <a:off x="493560" y="1273320"/>
            <a:ext cx="7958160" cy="4865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1039680" y="2077920"/>
            <a:ext cx="7182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ork as an event planner for a local company. You are in charge of hiring a caterer for the company’s 10th anniversary celebration. You have bids from four caterers in town. One of the bids is from a caterer who is an old friend. His bid is higher than the three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39680" y="4602240"/>
            <a:ext cx="7182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ould your relationship with the caterer affect which company you would hire? Explain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ethics in business copy"/>
          <p:cNvPicPr/>
          <p:nvPr/>
        </p:nvPicPr>
        <p:blipFill>
          <a:blip r:embed="rId1"/>
          <a:stretch/>
        </p:blipFill>
        <p:spPr>
          <a:xfrm>
            <a:off x="493560" y="1273320"/>
            <a:ext cx="7958160" cy="4865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1039680" y="2440080"/>
            <a:ext cx="718200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ent planner should recluse himself or herself from the decision-making process due to the conflict of interest. The employee has an ethical obligation to act in the best interests of th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???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a resource be used for one product result in a limited supply for another?  Giv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93680" y="2565360"/>
            <a:ext cx="72295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es make money by offering goods and services to satisfy the wants and needs of consumers and other businesses. In this way, wants and needs drive the U.S. ec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3320" y="236700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Describe the differences between a good and a service.  Which is tangible and which is intang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003320" y="3597120"/>
            <a:ext cx="715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A good is a product that is tangible, or can be tou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A service is something that is offered for our benefit.  It isintang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Define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03320" y="310032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Resources are items people use to make or obtain what they need or want. Examples of resources include money, fuel, and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hapter 1.2.  Page 12.  OBJECTIVES: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basic economic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steps in the decision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:  How do we use the decision making process in our daily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Basic Economic Problem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0760" y="2394000"/>
            <a:ext cx="39528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and businesses have unlimited wants and needs….this leads to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4932360" y="27208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Scar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having enough resources to satisfy every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Basic Economic Problem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0760" y="1765080"/>
            <a:ext cx="39528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earn $75 a week at a part time job.  Do you spend it all on a new pair of kicks or save it so you have money for movie and pizza on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4932360" y="272088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Economic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choosing which wants, among several options, will be satisfi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radeoffs and Opportunity Cost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that we must make choices all the time, we are making tradeoffs…we have to give up something in order to get someth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radeoffs and Opportunity Cost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0400" y="1906560"/>
            <a:ext cx="430380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idn’t buy the new pair of shoes so you could go to the movies and get pizz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radeo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buying the shoes so you could have pizza/mo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4781520" y="2720880"/>
            <a:ext cx="42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trad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give up something to have something e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0400" y="1235160"/>
            <a:ext cx="863892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radeoffs and Opportunity Cost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784160"/>
            <a:ext cx="432288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onomists evaluate an alternative by considering the opportunity cost of a dec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joyment of owning the shoes was the opportunity c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4932360" y="27208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Opportunit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value of the next-best alternative that you did not 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pportunity Cos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nefit you get from your choice should be greater than the benefit from the next-best choice that you didn’t choo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s humans always try to make the best choice to benefit ourselves, natural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pportunity Cost example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decides to quit his or her job and go back to school to increase their future earning potential.  What is the opp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decides to remain employed and not return to school to get a college degree.  What is the opp cos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9"/>
          <p:cNvSpPr/>
          <p:nvPr/>
        </p:nvSpPr>
        <p:spPr>
          <a:xfrm>
            <a:off x="1639800" y="3676680"/>
            <a:ext cx="5413320" cy="1936800"/>
          </a:xfrm>
          <a:prstGeom prst="roundRect">
            <a:avLst>
              <a:gd name="adj" fmla="val 8194"/>
            </a:avLst>
          </a:prstGeom>
          <a:solidFill>
            <a:srgbClr val="ffffff"/>
          </a:solidFill>
          <a:ln w="38160">
            <a:solidFill>
              <a:srgbClr val="2340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832040" y="4654440"/>
            <a:ext cx="50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se things do you wan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o you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400" y="2158560"/>
            <a:ext cx="8669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you had $10. You could buy lun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go to a mo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955880" y="3875040"/>
            <a:ext cx="2111400" cy="587520"/>
          </a:xfrm>
          <a:prstGeom prst="roundRect">
            <a:avLst>
              <a:gd name="adj" fmla="val 16667"/>
            </a:avLst>
          </a:prstGeom>
          <a:solidFill>
            <a:srgbClr val="23408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672080" y="3892680"/>
            <a:ext cx="2111400" cy="587160"/>
          </a:xfrm>
          <a:prstGeom prst="roundRect">
            <a:avLst>
              <a:gd name="adj" fmla="val 16667"/>
            </a:avLst>
          </a:prstGeom>
          <a:solidFill>
            <a:srgbClr val="23408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8"/>
          <p:cNvGrpSpPr/>
          <p:nvPr/>
        </p:nvGrpSpPr>
        <p:grpSpPr>
          <a:xfrm>
            <a:off x="382680" y="3728880"/>
            <a:ext cx="1557360" cy="932040"/>
            <a:chOff x="382680" y="3728880"/>
            <a:chExt cx="1557360" cy="932040"/>
          </a:xfrm>
        </p:grpSpPr>
        <p:sp>
          <p:nvSpPr>
            <p:cNvPr id="124" name="Oval 14"/>
            <p:cNvSpPr/>
            <p:nvPr/>
          </p:nvSpPr>
          <p:spPr>
            <a:xfrm>
              <a:off x="382680" y="3728880"/>
              <a:ext cx="931680" cy="932040"/>
            </a:xfrm>
            <a:prstGeom prst="ellipse">
              <a:avLst/>
            </a:prstGeom>
            <a:solidFill>
              <a:srgbClr val="b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e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6"/>
            <p:cNvSpPr/>
            <p:nvPr/>
          </p:nvSpPr>
          <p:spPr>
            <a:xfrm>
              <a:off x="1314360" y="4173480"/>
              <a:ext cx="625680" cy="0"/>
            </a:xfrm>
            <a:prstGeom prst="line">
              <a:avLst/>
            </a:prstGeom>
            <a:ln w="66600">
              <a:solidFill>
                <a:srgbClr val="b4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9"/>
          <p:cNvGrpSpPr/>
          <p:nvPr/>
        </p:nvGrpSpPr>
        <p:grpSpPr>
          <a:xfrm>
            <a:off x="6789600" y="3700440"/>
            <a:ext cx="1557360" cy="932040"/>
            <a:chOff x="6789600" y="3700440"/>
            <a:chExt cx="1557360" cy="932040"/>
          </a:xfrm>
        </p:grpSpPr>
        <p:sp>
          <p:nvSpPr>
            <p:cNvPr id="127" name="Oval 15"/>
            <p:cNvSpPr/>
            <p:nvPr/>
          </p:nvSpPr>
          <p:spPr>
            <a:xfrm>
              <a:off x="7415280" y="3700440"/>
              <a:ext cx="931680" cy="932040"/>
            </a:xfrm>
            <a:prstGeom prst="ellipse">
              <a:avLst/>
            </a:prstGeom>
            <a:solidFill>
              <a:srgbClr val="b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6789600" y="4173480"/>
              <a:ext cx="625680" cy="0"/>
            </a:xfrm>
            <a:prstGeom prst="line">
              <a:avLst/>
            </a:prstGeom>
            <a:ln w="66600">
              <a:solidFill>
                <a:srgbClr val="b4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pportunity Cost example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ity decides to build a hospital on vacant land it owns, what is the opp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-  the opportunity cost is the value of the benefits forgone of the next best thing that might have been done with the land and construction funds inst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ass assignmen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854360"/>
            <a:ext cx="89899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iece of paper, name at the top, list TEN situations where there is an opportunity cost pre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o me what the opportunity cost is in each situ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I chose to stay late at school and miss the chance to ride bikes with my son.  The opportunity cost is me having fun with my 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hoices…we’ve all made bad ones: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0400" y="2158920"/>
            <a:ext cx="8669160" cy="396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895320" y="2000160"/>
            <a:ext cx="7086600" cy="476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65320" y="1235160"/>
            <a:ext cx="62388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Decision-Making Proces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221" name="Picture 3" descr="boxes"/>
          <p:cNvPicPr/>
          <p:nvPr/>
        </p:nvPicPr>
        <p:blipFill>
          <a:blip r:embed="rId1"/>
          <a:stretch/>
        </p:blipFill>
        <p:spPr>
          <a:xfrm>
            <a:off x="3179880" y="1863720"/>
            <a:ext cx="5589360" cy="43959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2090880" y="2049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090880" y="290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090880" y="3814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090880" y="4665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090880" y="5553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3335400" y="546408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on your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335400" y="198432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3335400" y="286380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3335400" y="372744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advantage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3335400" y="4600440"/>
            <a:ext cx="5278320" cy="569880"/>
          </a:xfrm>
          <a:prstGeom prst="roundRect">
            <a:avLst>
              <a:gd name="adj" fmla="val 158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284040" y="1270080"/>
            <a:ext cx="1422360" cy="54108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Figure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2038320" y="5886360"/>
            <a:ext cx="59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Step 6- Review  Your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 What is scar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03320" y="351792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It is when you don’t have enough resources to satisfy all of you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2.  When you give up something to have something else, you a making a 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003320" y="351792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rade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List the steps in the decision-mak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03320" y="3517920"/>
            <a:ext cx="71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Define the problem, Identify the choices, Evaluate the advantages and disadvantages of each choice, Choose one, Act on your choice, Review your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section review copy"/>
          <p:cNvPicPr/>
          <p:nvPr/>
        </p:nvPicPr>
        <p:blipFill>
          <a:blip r:embed="rId1"/>
          <a:stretch/>
        </p:blipFill>
        <p:spPr>
          <a:xfrm>
            <a:off x="465120" y="1214280"/>
            <a:ext cx="8496360" cy="50292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4.  Which country is the largest producer of goods and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003320" y="351792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U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An Abundance of Wants and Need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422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W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termine what products and services businesses pro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key terms box"/>
          <p:cNvPicPr/>
          <p:nvPr/>
        </p:nvPicPr>
        <p:blipFill>
          <a:blip r:embed="rId1"/>
          <a:stretch/>
        </p:blipFill>
        <p:spPr>
          <a:xfrm>
            <a:off x="4627440" y="1913040"/>
            <a:ext cx="4383360" cy="4187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932360" y="2693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are required in order to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932360" y="41590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w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add comfort and pleasure to you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Needs and Want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needs and wants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105520" y="1733400"/>
            <a:ext cx="2514600" cy="1676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90400" y="4476600"/>
            <a:ext cx="69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fortunately, they never en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543800" y="2857680"/>
            <a:ext cx="12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fin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How do you satisfy your needs and wants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U.S. Economy – some facts    pg. 7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is the largest producer of goods and services in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p, the U.S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consumes more than any other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p, the U.S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flagwave1"/>
          <p:cNvPicPr/>
          <p:nvPr/>
        </p:nvPicPr>
        <p:blipFill>
          <a:blip r:embed="rId3"/>
          <a:stretch/>
        </p:blipFill>
        <p:spPr>
          <a:xfrm>
            <a:off x="5481720" y="4657680"/>
            <a:ext cx="2938320" cy="164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U.S. Economy – some facts    pg. 8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has twice as many shopping malls as they do high sch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p, the U.S.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who produces more pounds of garbage per person p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p, the U.S.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flagwave1"/>
          <p:cNvPicPr/>
          <p:nvPr/>
        </p:nvPicPr>
        <p:blipFill>
          <a:blip r:embed="rId3"/>
          <a:stretch/>
        </p:blipFill>
        <p:spPr>
          <a:xfrm>
            <a:off x="4967280" y="5076720"/>
            <a:ext cx="2409840" cy="134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Satisfying Wants and Need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60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es provide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go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atisfy the wants and needs of businesse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key terms box"/>
          <p:cNvPicPr/>
          <p:nvPr/>
        </p:nvPicPr>
        <p:blipFill>
          <a:blip r:embed="rId1"/>
          <a:stretch/>
        </p:blipFill>
        <p:spPr>
          <a:xfrm>
            <a:off x="4627440" y="1913040"/>
            <a:ext cx="4383360" cy="418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932360" y="2720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gs that you can see and touch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932360" y="378612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ctivities that are consumed at the same time they are produced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an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bstromes</cp:lastModifiedBy>
  <dcterms:modified xsi:type="dcterms:W3CDTF">2014-09-16T11:12:10Z</dcterms:modified>
  <cp:revision>90</cp:revision>
  <dc:subject/>
  <dc:title>Slide 1</dc:title>
</cp:coreProperties>
</file>